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C3C-8384-4538-9C8C-1980D5E3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74B-8404-4078-AF0F-982154BB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197-7FA1-4CB4-B8FE-755D3400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269-0656-4B1F-B298-D730F378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A64-405A-44F2-9FBC-6CEC4D4B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29B-CE05-4F0B-98E1-4288ECD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13E-D5B4-4246-BE43-6561DDA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F6B-738B-4D85-9AD5-8D095179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C97-B85B-460D-97AF-58C2AE8E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CE0-6605-4DD4-9512-4554804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4D7-4D61-490C-ABF9-DFD86B7D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B54-29A3-47C6-AFD8-9EDBB92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8D21-3777-41DF-A9C3-15F1BD53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a line when you have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930640" cy="472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219320" y="594360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if the slope is zero the lin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t it is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50532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87692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finition of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38080" y="19051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= slope =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80880" y="3809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Serif SAIN SmBd v.1"/>
              </a:rPr>
              <a:t>To find the slope of a line from two points you need to subtract the y values and divide by the difference in the x 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7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1438200" cy="110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9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885600" cy="1104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-2) and (9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(-2)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-3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4/6=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895480" y="50292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520200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6668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the line has a positive slope, that the line rises up as it goes left to r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77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2578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4,-2) and (-4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4-(-2)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-4-4=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-8 = -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76720" y="47242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-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2189160" y="990720"/>
            <a:ext cx="5222880" cy="487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523880" y="5943600"/>
            <a:ext cx="58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negative, that the line goes down from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1500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12408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4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4) and (3,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-2 – 4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3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-6/0 =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a fraction can not have zero in the denomin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334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un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3252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0666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undefined, that i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181480" y="2819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-3,4) and (2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y’s  4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x’s 2 – (-3)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nd simplify  0/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if the numerator is zero the fraction simplifies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76720" y="5562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1:45:02Z</dcterms:created>
  <dc:creator>Preferred Customer</dc:creator>
  <dc:description/>
  <dc:language>en-US</dc:language>
  <cp:lastModifiedBy>Troy</cp:lastModifiedBy>
  <dcterms:modified xsi:type="dcterms:W3CDTF">2009-10-13T03:27:47Z</dcterms:modified>
  <cp:revision>17</cp:revision>
  <dc:subject/>
  <dc:title>Slope</dc:title>
</cp:coreProperties>
</file>